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78BF-70E7-4523-AF3B-5122DDA3B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03F2-E555-4051-B40A-93C1384B1F4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62BF-0A2F-4C6D-8A19-33F84A1BE78B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4261-5F8F-472B-9EDC-744282AB6625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CC46-8496-461F-AE49-22FE5E4F8500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5457-C0C0-4C80-A4F0-17A55FA17CE3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BBD-375F-4127-9A5A-09C4C95B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DED-2FDF-4527-A7AC-4AC4B863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287-A14B-42D3-84C9-59754E92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416-C511-4946-9270-2B9B7C12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2E1A-D9D1-4368-824A-FB56E0EB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C844-502C-403F-838E-EF4A2CEA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8954-BA52-4355-BF6C-02DF0B8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6431-0223-4D33-AB14-5D292B50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5A5B-8126-4B7D-B5CD-B315F9C3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5793-62C9-4A1D-8D6A-CDC6F4B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DECD-7A18-42E4-9DDC-FBD6D66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625-6ECA-4A81-A848-5273E537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1F26-FC41-4D66-BB9A-CC9C348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10BC-0105-4776-B86B-D3851CE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33B1-E17B-4CCD-B325-F251BF60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22B0-A09D-4DD1-BC84-2E536B47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B3FF-B321-4706-B070-4D2F7B1B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936-0E23-4E81-82F6-38233980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354-7D11-45A1-BCB7-EB6EF17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93F-F419-4536-8E7A-074B7E6E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D7DD-C9B3-45C0-A945-69029EF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28C-FD44-4751-B41D-01B8C118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C50-8247-4187-9B17-81933B01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6F6-BAC9-4499-9757-19C233BD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A0C8-D900-4EAC-AEC0-DA411009E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15A2-7B55-499E-B257-ABAE58542E92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2" descr="Untitled-6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card5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0" descr="card4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9" descr="card2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8" descr="card1"/>
          <p:cNvPicPr/>
          <p:nvPr/>
        </p:nvPicPr>
        <p:blipFill>
          <a:blip r:embed="rId5"/>
          <a:stretch/>
        </p:blipFill>
        <p:spPr>
          <a:xfrm>
            <a:off x="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3"/>
          <p:cNvSpPr/>
          <p:nvPr/>
        </p:nvSpPr>
        <p:spPr>
          <a:xfrm>
            <a:off x="533520" y="2168640"/>
            <a:ext cx="792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80"/>
                </a:solidFill>
                <a:latin typeface="Arial"/>
              </a:rPr>
              <a:t>COLOUR</a:t>
            </a:r>
            <a:endParaRPr b="0" lang="en-US" sz="10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Text Box 108"/>
          <p:cNvSpPr/>
          <p:nvPr/>
        </p:nvSpPr>
        <p:spPr>
          <a:xfrm>
            <a:off x="662940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1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Picture 9" descr="C:\Users\Administrator\Desktop\PowerPoint Dep full vien trang.png"/>
          <p:cNvPicPr/>
          <p:nvPr/>
        </p:nvPicPr>
        <p:blipFill>
          <a:blip r:embed="rId6"/>
          <a:stretch/>
        </p:blipFill>
        <p:spPr>
          <a:xfrm>
            <a:off x="601560" y="579600"/>
            <a:ext cx="2751120" cy="393480"/>
          </a:xfrm>
          <a:prstGeom prst="rect">
            <a:avLst/>
          </a:prstGeom>
          <a:ln w="0">
            <a:noFill/>
          </a:ln>
        </p:spPr>
      </p:pic>
      <p:sp>
        <p:nvSpPr>
          <p:cNvPr id="99" name="Hình chữ nhật 1"/>
          <p:cNvSpPr/>
          <p:nvPr/>
        </p:nvSpPr>
        <p:spPr>
          <a:xfrm>
            <a:off x="638280" y="3960720"/>
            <a:ext cx="288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c4c4c"/>
                </a:solidFill>
                <a:latin typeface="Arial"/>
              </a:rPr>
              <a:t>SLIDES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0" name="Hộp_Văn_Bản 2" descr=""/>
          <p:cNvPicPr/>
          <p:nvPr/>
        </p:nvPicPr>
        <p:blipFill>
          <a:blip r:embed="rId7"/>
          <a:stretch/>
        </p:blipFill>
        <p:spPr>
          <a:xfrm>
            <a:off x="6431040" y="2487600"/>
            <a:ext cx="414360" cy="22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5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6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7" descr="card2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card1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6" descr=""/>
          <p:cNvPicPr/>
          <p:nvPr/>
        </p:nvPicPr>
        <p:blipFill>
          <a:blip r:embed="rId6"/>
          <a:stretch/>
        </p:blipFill>
        <p:spPr>
          <a:xfrm>
            <a:off x="1371600" y="1447920"/>
            <a:ext cx="6400800" cy="4351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3"/>
          <p:cNvSpPr/>
          <p:nvPr/>
        </p:nvSpPr>
        <p:spPr>
          <a:xfrm>
            <a:off x="2232000" y="5791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c4c4c"/>
                </a:solidFill>
                <a:latin typeface="Arial"/>
              </a:rPr>
              <a:t>Biểu đồ minh họa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67057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2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Hộp_Văn_Bản 1"/>
          <p:cNvSpPr/>
          <p:nvPr/>
        </p:nvSpPr>
        <p:spPr>
          <a:xfrm>
            <a:off x="5207760" y="1536840"/>
            <a:ext cx="24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Click 2 lần để thay đổi số liệu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1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209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8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9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0" descr="card4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1" descr="card2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2" descr="card1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5340240" y="2135160"/>
            <a:ext cx="26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Thay hình ảnh giả bằng hình ảnh của Bạn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69343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3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Picture 73" descr="C:\Users\Administrator\Desktop\smf_icon.png"/>
          <p:cNvPicPr/>
          <p:nvPr/>
        </p:nvPicPr>
        <p:blipFill>
          <a:blip r:embed="rId6"/>
          <a:stretch/>
        </p:blipFill>
        <p:spPr>
          <a:xfrm>
            <a:off x="830160" y="1700280"/>
            <a:ext cx="3921120" cy="3921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7"/>
          <p:cNvSpPr/>
          <p:nvPr/>
        </p:nvSpPr>
        <p:spPr>
          <a:xfrm>
            <a:off x="5340240" y="2857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5340240" y="33624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37"/>
          <p:cNvSpPr/>
          <p:nvPr/>
        </p:nvSpPr>
        <p:spPr>
          <a:xfrm>
            <a:off x="5340240" y="39178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7"/>
          <p:cNvSpPr/>
          <p:nvPr/>
        </p:nvSpPr>
        <p:spPr>
          <a:xfrm>
            <a:off x="5340240" y="443700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Picture 9" descr="C:\Users\Administrator\Desktop\PowerPoint Dep full vien trang.png"/>
          <p:cNvPicPr/>
          <p:nvPr/>
        </p:nvPicPr>
        <p:blipFill>
          <a:blip r:embed="rId7"/>
          <a:stretch/>
        </p:blipFill>
        <p:spPr>
          <a:xfrm>
            <a:off x="111240" y="2124000"/>
            <a:ext cx="37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9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0" descr="card5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1" descr="card4"/>
          <p:cNvPicPr/>
          <p:nvPr/>
        </p:nvPicPr>
        <p:blipFill>
          <a:blip r:embed="rId3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2" descr="card2"/>
          <p:cNvPicPr/>
          <p:nvPr/>
        </p:nvPicPr>
        <p:blipFill>
          <a:blip r:embed="rId4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3" descr="card1"/>
          <p:cNvPicPr/>
          <p:nvPr/>
        </p:nvPicPr>
        <p:blipFill>
          <a:blip r:embed="rId5"/>
          <a:srcRect l="82161" t="0" r="8714" b="0"/>
          <a:stretch/>
        </p:blipFill>
        <p:spPr>
          <a:xfrm>
            <a:off x="0" y="0"/>
            <a:ext cx="838080" cy="688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6"/>
          <p:cNvSpPr/>
          <p:nvPr/>
        </p:nvSpPr>
        <p:spPr>
          <a:xfrm>
            <a:off x="7162920" y="1666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4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Плюс 53"/>
          <p:cNvSpPr/>
          <p:nvPr/>
        </p:nvSpPr>
        <p:spPr>
          <a:xfrm>
            <a:off x="2924280" y="2308320"/>
            <a:ext cx="966600" cy="966600"/>
          </a:xfrm>
          <a:custGeom>
            <a:avLst/>
            <a:gdLst/>
            <a:ahLst/>
            <a:rect l="l" t="t" r="r" b="b"/>
            <a:pathLst>
              <a:path w="966788" h="966788">
                <a:moveTo>
                  <a:pt x="128148" y="401396"/>
                </a:moveTo>
                <a:lnTo>
                  <a:pt x="401396" y="401396"/>
                </a:lnTo>
                <a:lnTo>
                  <a:pt x="401396" y="128148"/>
                </a:lnTo>
                <a:lnTo>
                  <a:pt x="565392" y="128148"/>
                </a:lnTo>
                <a:lnTo>
                  <a:pt x="565392" y="401396"/>
                </a:lnTo>
                <a:lnTo>
                  <a:pt x="838640" y="401396"/>
                </a:lnTo>
                <a:lnTo>
                  <a:pt x="838640" y="565392"/>
                </a:lnTo>
                <a:lnTo>
                  <a:pt x="565392" y="565392"/>
                </a:lnTo>
                <a:lnTo>
                  <a:pt x="565392" y="838640"/>
                </a:lnTo>
                <a:lnTo>
                  <a:pt x="401396" y="838640"/>
                </a:lnTo>
                <a:lnTo>
                  <a:pt x="401396" y="565392"/>
                </a:lnTo>
                <a:lnTo>
                  <a:pt x="128148" y="565392"/>
                </a:lnTo>
                <a:lnTo>
                  <a:pt x="128148" y="401396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Равно 54"/>
          <p:cNvSpPr/>
          <p:nvPr/>
        </p:nvSpPr>
        <p:spPr>
          <a:xfrm>
            <a:off x="5705640" y="2549520"/>
            <a:ext cx="966600" cy="544680"/>
          </a:xfrm>
          <a:custGeom>
            <a:avLst/>
            <a:gdLst/>
            <a:ahLst/>
            <a:rect l="l" t="t" r="r" b="b"/>
            <a:pathLst>
              <a:path w="966788" h="544513">
                <a:moveTo>
                  <a:pt x="128148" y="112170"/>
                </a:moveTo>
                <a:lnTo>
                  <a:pt x="838640" y="112170"/>
                </a:lnTo>
                <a:lnTo>
                  <a:pt x="838640" y="240239"/>
                </a:lnTo>
                <a:lnTo>
                  <a:pt x="128148" y="240239"/>
                </a:lnTo>
                <a:lnTo>
                  <a:pt x="128148" y="112170"/>
                </a:lnTo>
                <a:close/>
                <a:moveTo>
                  <a:pt x="128148" y="304274"/>
                </a:moveTo>
                <a:lnTo>
                  <a:pt x="838640" y="304274"/>
                </a:lnTo>
                <a:lnTo>
                  <a:pt x="838640" y="432343"/>
                </a:lnTo>
                <a:lnTo>
                  <a:pt x="128148" y="432343"/>
                </a:lnTo>
                <a:lnTo>
                  <a:pt x="128148" y="304274"/>
                </a:ln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50000">
                <a:srgbClr val="404040"/>
              </a:gs>
              <a:gs pos="100000">
                <a:srgbClr val="0d0d0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4" name="Группа 58"/>
          <p:cNvGrpSpPr/>
          <p:nvPr/>
        </p:nvGrpSpPr>
        <p:grpSpPr>
          <a:xfrm>
            <a:off x="1332000" y="4181400"/>
            <a:ext cx="1944720" cy="1571760"/>
            <a:chOff x="1332000" y="4181400"/>
            <a:chExt cx="1944720" cy="1571760"/>
          </a:xfrm>
        </p:grpSpPr>
        <p:sp>
          <p:nvSpPr>
            <p:cNvPr id="135" name="Прямоугольник 59"/>
            <p:cNvSpPr/>
            <p:nvPr/>
          </p:nvSpPr>
          <p:spPr>
            <a:xfrm>
              <a:off x="133200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36" name="Прямоугольник 60"/>
            <p:cNvSpPr/>
            <p:nvPr/>
          </p:nvSpPr>
          <p:spPr>
            <a:xfrm>
              <a:off x="133200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4ee7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37" name="Прямоугольник 65"/>
          <p:cNvSpPr/>
          <p:nvPr/>
        </p:nvSpPr>
        <p:spPr>
          <a:xfrm>
            <a:off x="162864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1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38" name="Группа 83"/>
          <p:cNvGrpSpPr/>
          <p:nvPr/>
        </p:nvGrpSpPr>
        <p:grpSpPr>
          <a:xfrm>
            <a:off x="3902040" y="4181400"/>
            <a:ext cx="1944720" cy="1571760"/>
            <a:chOff x="3902040" y="4181400"/>
            <a:chExt cx="1944720" cy="1571760"/>
          </a:xfrm>
        </p:grpSpPr>
        <p:sp>
          <p:nvSpPr>
            <p:cNvPr id="139" name="Прямоугольник 86"/>
            <p:cNvSpPr/>
            <p:nvPr/>
          </p:nvSpPr>
          <p:spPr>
            <a:xfrm>
              <a:off x="39020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0" name="Прямоугольник 87"/>
            <p:cNvSpPr/>
            <p:nvPr/>
          </p:nvSpPr>
          <p:spPr>
            <a:xfrm>
              <a:off x="39020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1" name="Прямоугольник 85"/>
          <p:cNvSpPr/>
          <p:nvPr/>
        </p:nvSpPr>
        <p:spPr>
          <a:xfrm>
            <a:off x="4200480" y="4543560"/>
            <a:ext cx="13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2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2" name="Группа 89"/>
          <p:cNvGrpSpPr/>
          <p:nvPr/>
        </p:nvGrpSpPr>
        <p:grpSpPr>
          <a:xfrm>
            <a:off x="6618240" y="4181400"/>
            <a:ext cx="1944720" cy="1571760"/>
            <a:chOff x="6618240" y="4181400"/>
            <a:chExt cx="1944720" cy="1571760"/>
          </a:xfrm>
        </p:grpSpPr>
        <p:sp>
          <p:nvSpPr>
            <p:cNvPr id="143" name="Прямоугольник 95"/>
            <p:cNvSpPr/>
            <p:nvPr/>
          </p:nvSpPr>
          <p:spPr>
            <a:xfrm>
              <a:off x="6618240" y="4181400"/>
              <a:ext cx="1944720" cy="157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  <p:sp>
          <p:nvSpPr>
            <p:cNvPr id="144" name="Прямоугольник 96"/>
            <p:cNvSpPr/>
            <p:nvPr/>
          </p:nvSpPr>
          <p:spPr>
            <a:xfrm>
              <a:off x="6618240" y="4181400"/>
              <a:ext cx="1944720" cy="241200"/>
            </a:xfrm>
            <a:prstGeom prst="rect">
              <a:avLst/>
            </a:prstGeom>
            <a:gradFill rotWithShape="0">
              <a:gsLst>
                <a:gs pos="0">
                  <a:srgbClr val="127d12"/>
                </a:gs>
                <a:gs pos="100000">
                  <a:srgbClr val="28d72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5" name="Прямоугольник 91"/>
          <p:cNvSpPr/>
          <p:nvPr/>
        </p:nvSpPr>
        <p:spPr>
          <a:xfrm>
            <a:off x="6867360" y="45435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Tiêu đề 3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46" name="Ellipse 98"/>
          <p:cNvGrpSpPr/>
          <p:nvPr/>
        </p:nvGrpSpPr>
        <p:grpSpPr>
          <a:xfrm>
            <a:off x="6980400" y="3365640"/>
            <a:ext cx="1382400" cy="304560"/>
            <a:chOff x="6980400" y="3365640"/>
            <a:chExt cx="1382400" cy="304560"/>
          </a:xfrm>
        </p:grpSpPr>
        <p:pic>
          <p:nvPicPr>
            <p:cNvPr id="147" name="Ellipse 98" descr=""/>
            <p:cNvPicPr/>
            <p:nvPr/>
          </p:nvPicPr>
          <p:blipFill>
            <a:blip r:embed="rId6"/>
            <a:stretch/>
          </p:blipFill>
          <p:spPr>
            <a:xfrm>
              <a:off x="6980400" y="3365640"/>
              <a:ext cx="1382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71848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49" name="Can 56"/>
          <p:cNvSpPr/>
          <p:nvPr/>
        </p:nvSpPr>
        <p:spPr>
          <a:xfrm>
            <a:off x="7118280" y="2065320"/>
            <a:ext cx="1089000" cy="1390680"/>
          </a:xfrm>
          <a:prstGeom prst="can">
            <a:avLst>
              <a:gd name="adj" fmla="val 19578"/>
            </a:avLst>
          </a:prstGeom>
          <a:gradFill rotWithShape="0">
            <a:gsLst>
              <a:gs pos="0">
                <a:srgbClr val="127d12"/>
              </a:gs>
              <a:gs pos="100000">
                <a:srgbClr val="28d728"/>
              </a:gs>
            </a:gsLst>
            <a:lin ang="5400000"/>
          </a:gradFill>
          <a:ln w="12600">
            <a:solidFill>
              <a:srgbClr val="127d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0" name="Ellipse 98"/>
          <p:cNvGrpSpPr/>
          <p:nvPr/>
        </p:nvGrpSpPr>
        <p:grpSpPr>
          <a:xfrm>
            <a:off x="4114800" y="3365640"/>
            <a:ext cx="1384200" cy="304560"/>
            <a:chOff x="4114800" y="3365640"/>
            <a:chExt cx="1384200" cy="304560"/>
          </a:xfrm>
        </p:grpSpPr>
        <p:pic>
          <p:nvPicPr>
            <p:cNvPr id="151" name="Ellipse 98" descr=""/>
            <p:cNvPicPr/>
            <p:nvPr/>
          </p:nvPicPr>
          <p:blipFill>
            <a:blip r:embed="rId7"/>
            <a:stretch/>
          </p:blipFill>
          <p:spPr>
            <a:xfrm>
              <a:off x="4114800" y="3365640"/>
              <a:ext cx="13842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319640" y="3411360"/>
              <a:ext cx="977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3" name="Can 62"/>
          <p:cNvSpPr/>
          <p:nvPr/>
        </p:nvSpPr>
        <p:spPr>
          <a:xfrm>
            <a:off x="4254480" y="2065320"/>
            <a:ext cx="108756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54" name="Ellipse 98"/>
          <p:cNvGrpSpPr/>
          <p:nvPr/>
        </p:nvGrpSpPr>
        <p:grpSpPr>
          <a:xfrm>
            <a:off x="1457280" y="3365640"/>
            <a:ext cx="1382760" cy="304560"/>
            <a:chOff x="1457280" y="3365640"/>
            <a:chExt cx="1382760" cy="304560"/>
          </a:xfrm>
        </p:grpSpPr>
        <p:pic>
          <p:nvPicPr>
            <p:cNvPr id="155" name="Ellipse 98" descr=""/>
            <p:cNvPicPr/>
            <p:nvPr/>
          </p:nvPicPr>
          <p:blipFill>
            <a:blip r:embed="rId8"/>
            <a:stretch/>
          </p:blipFill>
          <p:spPr>
            <a:xfrm>
              <a:off x="1457280" y="3365640"/>
              <a:ext cx="138276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660680" y="3411360"/>
              <a:ext cx="976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c4c4c"/>
                </a:solidFill>
                <a:latin typeface="Arial"/>
              </a:endParaRPr>
            </a:p>
          </p:txBody>
        </p:sp>
      </p:grpSp>
      <p:sp>
        <p:nvSpPr>
          <p:cNvPr id="157" name="Can 64"/>
          <p:cNvSpPr/>
          <p:nvPr/>
        </p:nvSpPr>
        <p:spPr>
          <a:xfrm>
            <a:off x="1595520" y="2065320"/>
            <a:ext cx="1087200" cy="1390680"/>
          </a:xfrm>
          <a:prstGeom prst="can">
            <a:avLst>
              <a:gd name="adj" fmla="val 19550"/>
            </a:avLst>
          </a:prstGeom>
          <a:gradFill rotWithShape="0">
            <a:gsLst>
              <a:gs pos="0">
                <a:srgbClr val="0070c0"/>
              </a:gs>
              <a:gs pos="100000">
                <a:srgbClr val="4ee7fc"/>
              </a:gs>
            </a:gsLst>
            <a:lin ang="5400000"/>
          </a:gra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d4d4d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9" name="Rectangle 37"/>
          <p:cNvSpPr/>
          <p:nvPr/>
        </p:nvSpPr>
        <p:spPr>
          <a:xfrm>
            <a:off x="153036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414972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6832440" y="495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2" name="Picture 9" descr="C:\Users\Administrator\Desktop\PowerPoint Dep full vien trang.png"/>
          <p:cNvPicPr/>
          <p:nvPr/>
        </p:nvPicPr>
        <p:blipFill>
          <a:blip r:embed="rId9"/>
          <a:stretch/>
        </p:blipFill>
        <p:spPr>
          <a:xfrm>
            <a:off x="66600" y="2124000"/>
            <a:ext cx="37800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7"/>
          <p:cNvSpPr/>
          <p:nvPr/>
        </p:nvSpPr>
        <p:spPr>
          <a:xfrm>
            <a:off x="1530360" y="5265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412128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6813720" y="526572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card5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6" descr="card4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card2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card1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9"/>
          <p:cNvSpPr/>
          <p:nvPr/>
        </p:nvSpPr>
        <p:spPr>
          <a:xfrm>
            <a:off x="7397640" y="1666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2fdf7"/>
                </a:solidFill>
                <a:latin typeface="Arial"/>
              </a:rPr>
              <a:t>05</a:t>
            </a:r>
            <a:endParaRPr b="0" lang="en-US" sz="6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Rectangle 40"/>
          <p:cNvSpPr/>
          <p:nvPr/>
        </p:nvSpPr>
        <p:spPr>
          <a:xfrm>
            <a:off x="755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pSp>
        <p:nvGrpSpPr>
          <p:cNvPr id="173" name="Nhóm 2"/>
          <p:cNvGrpSpPr/>
          <p:nvPr/>
        </p:nvGrpSpPr>
        <p:grpSpPr>
          <a:xfrm>
            <a:off x="2664000" y="1511280"/>
            <a:ext cx="4392360" cy="3083040"/>
            <a:chOff x="2664000" y="1511280"/>
            <a:chExt cx="4392360" cy="3083040"/>
          </a:xfrm>
        </p:grpSpPr>
        <p:pic>
          <p:nvPicPr>
            <p:cNvPr id="174" name="Freeform 6" descr=""/>
            <p:cNvPicPr/>
            <p:nvPr/>
          </p:nvPicPr>
          <p:blipFill>
            <a:blip r:embed="rId6"/>
            <a:stretch/>
          </p:blipFill>
          <p:spPr>
            <a:xfrm>
              <a:off x="2664000" y="3061440"/>
              <a:ext cx="15526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Freeform 11" descr=""/>
            <p:cNvPicPr/>
            <p:nvPr/>
          </p:nvPicPr>
          <p:blipFill>
            <a:blip r:embed="rId7"/>
            <a:stretch/>
          </p:blipFill>
          <p:spPr>
            <a:xfrm>
              <a:off x="4125960" y="310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Freeform 11" descr=""/>
            <p:cNvPicPr/>
            <p:nvPr/>
          </p:nvPicPr>
          <p:blipFill>
            <a:blip r:embed="rId8"/>
            <a:stretch/>
          </p:blipFill>
          <p:spPr>
            <a:xfrm>
              <a:off x="4935600" y="2603520"/>
              <a:ext cx="1335240" cy="13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Freeform 11" descr=""/>
            <p:cNvPicPr/>
            <p:nvPr/>
          </p:nvPicPr>
          <p:blipFill>
            <a:blip r:embed="rId9"/>
            <a:stretch/>
          </p:blipFill>
          <p:spPr>
            <a:xfrm>
              <a:off x="6065640" y="3372840"/>
              <a:ext cx="99072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114" descr=""/>
            <p:cNvPicPr/>
            <p:nvPr/>
          </p:nvPicPr>
          <p:blipFill>
            <a:blip r:embed="rId10"/>
            <a:stretch/>
          </p:blipFill>
          <p:spPr>
            <a:xfrm>
              <a:off x="3207600" y="1511280"/>
              <a:ext cx="1939320" cy="20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Rectangle 37"/>
          <p:cNvSpPr/>
          <p:nvPr/>
        </p:nvSpPr>
        <p:spPr>
          <a:xfrm>
            <a:off x="523224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523224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Rectangle 37"/>
          <p:cNvSpPr/>
          <p:nvPr/>
        </p:nvSpPr>
        <p:spPr>
          <a:xfrm>
            <a:off x="2050920" y="53434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050920" y="500868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1351080" y="399960"/>
            <a:ext cx="47336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fefef"/>
                </a:solidFill>
                <a:latin typeface="Arial"/>
              </a:rPr>
              <a:t>TIÊU ĐỀ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Rectangle 37"/>
          <p:cNvSpPr/>
          <p:nvPr/>
        </p:nvSpPr>
        <p:spPr>
          <a:xfrm>
            <a:off x="523224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2050920" y="5683320"/>
            <a:ext cx="261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spcBef>
                <a:spcPts val="10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c4c4c"/>
                </a:solidFill>
                <a:latin typeface="Arial"/>
              </a:rPr>
              <a:t>Mô tả nội dung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Đường kết nối Thẳng 5"/>
          <p:cNvSpPr/>
          <p:nvPr/>
        </p:nvSpPr>
        <p:spPr>
          <a:xfrm>
            <a:off x="5102280" y="5008680"/>
            <a:ext cx="0" cy="1012680"/>
          </a:xfrm>
          <a:prstGeom prst="line">
            <a:avLst/>
          </a:prstGeom>
          <a:ln w="9360">
            <a:solidFill>
              <a:srgbClr val="9999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87" name="Picture 9" descr="C:\Users\Administrator\Desktop\PowerPoint Dep full vien trang.png"/>
          <p:cNvPicPr/>
          <p:nvPr/>
        </p:nvPicPr>
        <p:blipFill>
          <a:blip r:embed="rId11"/>
          <a:stretch/>
        </p:blipFill>
        <p:spPr>
          <a:xfrm>
            <a:off x="20520" y="2124000"/>
            <a:ext cx="37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Carcassonno</cp:lastModifiedBy>
  <dcterms:modified xsi:type="dcterms:W3CDTF">2013-05-07T17:22:43Z</dcterms:modified>
  <cp:revision>139</cp:revision>
  <dc:subject/>
  <dc:title>Coloured slides template background</dc:title>
</cp:coreProperties>
</file>